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B16DD-6D52-46D6-AFDB-572544520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85F2C-60A7-4EC1-B554-45A6C9FA7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987BA-8A72-48E2-841A-964ADF3A3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D48F0-BB0A-43EB-9CDF-95C856104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C500DF-F16C-49EE-AD59-1EB0815B0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444A5-CE95-4708-96CE-15B3CB422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D4A77-A76A-4DA9-868E-53F515013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1E7C7-3B0A-4782-A721-BC291DAEB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94BDD-D792-435F-8F5A-EEB0A0A40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12705-EE2F-4B87-8550-1B5E7D89E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BA188-AA0A-40BA-8A4A-3A1D12424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E87AD-6FA9-4BDE-BD31-2F8F21748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FDEEE-0E04-4600-8EB1-B18909E4D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1B473-C917-436E-83C8-D410D7C12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D246D-93BB-4DA3-9BF0-2729240B4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6DDAA0-E841-471A-BDB9-ADED800DF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B72603-2A4C-4EF0-935C-E9B27098B2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6A786-C41A-4F72-962F-77377C5F8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EC746-5205-4C02-801B-2C5E979AC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69BFD-769B-4E68-84A4-89418E2EE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10327-51D3-4182-8800-182C54075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6F3E5-DFB9-45B1-8B39-57FBA4FCD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9DCBA-0509-4F7C-B724-37C2D0901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67834-EF94-43D2-B9B4-C11E37DF5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4D9E9-BE79-4232-9300-185A8DA23F81}" type="datetime">
              <a:rPr b="0" lang="es-ES"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4F9A-8931-4FBC-9736-B6E488C5AD6F}"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A4127-0C08-455B-9B23-2B34298CDB90}" type="datetime">
              <a:rPr b="0" lang="es-ES"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7559-1D74-4EE5-B031-C51050FA84C1}"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D:/lgcba941.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50450-A0BA-45C3-94C4-3C457418BDC1}" type="datetime">
              <a:rPr b="0" lang="es-ES"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89"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90"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26E0-A2B4-4127-8E83-EFF385D94CDF}"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cc66"/>
                </a:solidFill>
                <a:latin typeface="Arial"/>
              </a:rPr>
              <a:t>Registro Público de Administradores</a:t>
            </a:r>
            <a:endParaRPr b="0" lang="en-US" sz="4000" spc="-1" strike="noStrike">
              <a:solidFill>
                <a:srgbClr val="ffcc66"/>
              </a:solidFill>
              <a:latin typeface="Arial"/>
            </a:endParaRPr>
          </a:p>
        </p:txBody>
      </p:sp>
      <p:sp>
        <p:nvSpPr>
          <p:cNvPr id="92"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Jornada Consorcios 26/7/2011</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Dr. Leopoldo Gurovi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Disposición 525</a:t>
            </a:r>
            <a:endParaRPr b="0" lang="en-US" sz="4400" spc="-1" strike="noStrike">
              <a:solidFill>
                <a:srgbClr val="ffcc66"/>
              </a:solidFill>
              <a:latin typeface="Arial"/>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DISPOSICION D.G.D. y P.C. 525/11 (G.C.B.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ffff"/>
                </a:solidFill>
                <a:latin typeface="Times New Roman"/>
              </a:rPr>
              <a:t>Buenos Aires, 25 de abril de 2011</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ffff"/>
                </a:solidFill>
                <a:latin typeface="Times New Roman"/>
              </a:rPr>
              <a:t>B.O.: 6/5/11 (C.B.A.)</a:t>
            </a:r>
            <a:endParaRPr b="0" lang="en-US" sz="3200" spc="-1" strike="noStrike">
              <a:solidFill>
                <a:srgbClr val="ffffff"/>
              </a:solidFill>
              <a:latin typeface="Times New Roman"/>
            </a:endParaRPr>
          </a:p>
        </p:txBody>
      </p:sp>
      <p:sp>
        <p:nvSpPr>
          <p:cNvPr id="95"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2FEA-C498-4C0B-9ACF-8D9F69DA3588}" type="datetime">
              <a:rPr b="0" lang="es-ES"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9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9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E76D-6432-4867-9064-57FBB2D713E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Disposición 525</a:t>
            </a:r>
            <a:endParaRPr b="0" lang="en-US" sz="4400" spc="-1" strike="noStrike">
              <a:solidFill>
                <a:srgbClr val="ffcc66"/>
              </a:solidFill>
              <a:latin typeface="Arial"/>
            </a:endParaRPr>
          </a:p>
        </p:txBody>
      </p:sp>
      <p:sp>
        <p:nvSpPr>
          <p:cNvPr id="9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iudad de Buenos Aires. Registro Público de Administradores de Consorcios de Propiedad Horizontal. </a:t>
            </a:r>
            <a:r>
              <a:rPr b="0" lang="es-MX" sz="3200" spc="-1" strike="noStrike" u="sng">
                <a:solidFill>
                  <a:srgbClr val="ff0033"/>
                </a:solidFill>
                <a:uFillTx/>
                <a:latin typeface="Times New Roman"/>
                <a:hlinkClick r:id="rId1"/>
              </a:rPr>
              <a:t>Ley 941</a:t>
            </a:r>
            <a:r>
              <a:rPr b="1" lang="es-MX" sz="3200" spc="-1" strike="noStrike">
                <a:solidFill>
                  <a:srgbClr val="ffffff"/>
                </a:solidFill>
                <a:latin typeface="Times New Roman"/>
              </a:rPr>
              <a:t>. Contratación de póliza de caució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BD395-964B-498D-AA6A-59435B1F2DD4}" type="datetime">
              <a:rPr b="0" lang="es-ES"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10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0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0D14-BA8D-4542-8E4A-81FA87DD94A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Disposición 525</a:t>
            </a:r>
            <a:endParaRPr b="0" lang="en-US" sz="4400" spc="-1" strike="noStrike">
              <a:solidFill>
                <a:srgbClr val="ffcc66"/>
              </a:solidFill>
              <a:latin typeface="Arial"/>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Art. 1</a:t>
            </a:r>
            <a:r>
              <a:rPr b="0" lang="es-MX" sz="3200" spc="-1" strike="noStrike">
                <a:solidFill>
                  <a:srgbClr val="ffffff"/>
                </a:solidFill>
                <a:latin typeface="Times New Roman"/>
              </a:rPr>
              <a:t> – Los administradores de consorcios de propiedad horizontal deberán acreditar, en calidad de tomador, </a:t>
            </a:r>
            <a:endParaRPr b="0" lang="en-US" sz="3200" spc="-1" strike="noStrike">
              <a:solidFill>
                <a:srgbClr val="ffffff"/>
              </a:solidFill>
              <a:latin typeface="Times New Roman"/>
            </a:endParaRPr>
          </a:p>
        </p:txBody>
      </p:sp>
      <p:sp>
        <p:nvSpPr>
          <p:cNvPr id="105"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F76C8-7692-4739-BC94-353C2BA27813}" type="datetime">
              <a:rPr b="0" lang="es-ES"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10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0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509F-82AB-43F2-A1C0-23C751BE9DC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Disposición 525</a:t>
            </a:r>
            <a:endParaRPr b="0" lang="en-US" sz="4400" spc="-1" strike="noStrike">
              <a:solidFill>
                <a:srgbClr val="ffcc66"/>
              </a:solidFill>
              <a:latin typeface="Arial"/>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contratación de una póliza de caución, que garantice a la Dirección General de Defensa y Protección al Consumidor del Gobierno de la Ciudad Autónoma de Buenos Aires, en su calidad de beneficiario asegurado, la percepción de la suma máxima establecida en el art. 11 de la Ley 941 por infringir la presente le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CD6C-BA58-4E55-A66F-2E1F4773E247}" type="datetime">
              <a:rPr b="0" lang="es-ES"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11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1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91BF-C208-410E-BD9D-7A86687F8BA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Disposición 525</a:t>
            </a:r>
            <a:endParaRPr b="0" lang="en-US" sz="4400" spc="-1" strike="noStrike">
              <a:solidFill>
                <a:srgbClr val="ffcc66"/>
              </a:solidFill>
              <a:latin typeface="Arial"/>
            </a:endParaRPr>
          </a:p>
        </p:txBody>
      </p:sp>
      <p:sp>
        <p:nvSpPr>
          <p:cNvPr id="114"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Art. 2</a:t>
            </a:r>
            <a:r>
              <a:rPr b="0" lang="es-MX" sz="3200" spc="-1" strike="noStrike">
                <a:solidFill>
                  <a:srgbClr val="ffffff"/>
                </a:solidFill>
                <a:latin typeface="Times New Roman"/>
              </a:rPr>
              <a:t> – Para el caso en que el administrador de consorcios de propiedad horizontal haya optado por la constitución de una póliza de caución garantizando a sus administrados el cumplimiento de las obligaciones derivadas de la relación contractual que los vincula de acuerdo con lo dispuesto por el art. 3 de la Disp. D.G.D. y P.C. 6.013/09,</a:t>
            </a:r>
            <a:endParaRPr b="0" lang="en-US" sz="3200" spc="-1" strike="noStrike">
              <a:solidFill>
                <a:srgbClr val="ffffff"/>
              </a:solidFill>
              <a:latin typeface="Times New Roman"/>
            </a:endParaRPr>
          </a:p>
        </p:txBody>
      </p:sp>
      <p:sp>
        <p:nvSpPr>
          <p:cNvPr id="115"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E5646-355E-4D90-A6FD-3C2A7FE71F94}" type="datetime">
              <a:rPr b="0" lang="es-ES"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11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1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EFD57-AB2E-40F8-B0F2-1FC006E8C70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Disposición 525</a:t>
            </a:r>
            <a:endParaRPr b="0" lang="en-US" sz="4400" spc="-1" strike="noStrike">
              <a:solidFill>
                <a:srgbClr val="ffcc66"/>
              </a:solidFill>
              <a:latin typeface="Arial"/>
            </a:endParaRPr>
          </a:p>
        </p:txBody>
      </p:sp>
      <p:sp>
        <p:nvSpPr>
          <p:cNvPr id="11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	</a:t>
            </a:r>
            <a:r>
              <a:rPr b="0" lang="es-MX" sz="3200" spc="-1" strike="noStrike">
                <a:solidFill>
                  <a:srgbClr val="ffffff"/>
                </a:solidFill>
                <a:latin typeface="Times New Roman"/>
              </a:rPr>
              <a:t>la póliza exigida en el art. 1 de la presente disposición se incluirá como una sección separada en la póliza de caución que garantiza a sus administrados el cumplimiento de sus obligaciones.</a:t>
            </a:r>
            <a:endParaRPr b="0" lang="en-US" sz="3200" spc="-1" strike="noStrike">
              <a:solidFill>
                <a:srgbClr val="ffffff"/>
              </a:solidFill>
              <a:latin typeface="Times New Roman"/>
            </a:endParaRPr>
          </a:p>
        </p:txBody>
      </p:sp>
      <p:sp>
        <p:nvSpPr>
          <p:cNvPr id="120"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9208-1C3A-4822-9DC4-C8AF87503080}" type="datetime">
              <a:rPr b="0" lang="es-ES"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12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2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7D2EE-D5D3-44DD-83F4-A8A7A3BA2ED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Disposición 525</a:t>
            </a:r>
            <a:endParaRPr b="0" lang="en-US" sz="4400" spc="-1" strike="noStrike">
              <a:solidFill>
                <a:srgbClr val="ffcc66"/>
              </a:solidFill>
              <a:latin typeface="Arial"/>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Art. 3 </a:t>
            </a:r>
            <a:r>
              <a:rPr b="0" lang="es-MX" sz="3200" spc="-1" strike="noStrike">
                <a:solidFill>
                  <a:srgbClr val="ffffff"/>
                </a:solidFill>
                <a:latin typeface="Times New Roman"/>
              </a:rPr>
              <a:t>– Lo dispuesto el art. 2 de la presente disposición permit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Que el administrador de consorcios de propiedad horizontal mediante un único instrumento garantice el cumplimiento de sus obligaciones establecidas en la Ley 941 y modificatorias, y en la Disp. D.G.D. y P.C. 6.013/09.</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AC83-D54B-421B-9F44-BBCD7A965907}" type="datetime">
              <a:rPr b="0" lang="es-ES"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12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2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EDB1B-4B6B-48E0-A74A-7901FB5EC20E}"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Disposición 525</a:t>
            </a:r>
            <a:endParaRPr b="0" lang="en-US" sz="4400" spc="-1" strike="noStrike">
              <a:solidFill>
                <a:srgbClr val="ffcc66"/>
              </a:solidFill>
              <a:latin typeface="Arial"/>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b) Que el órgano de aplicación disponga de un instrumento único al momento de analizar las garantía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Art. 4 </a:t>
            </a:r>
            <a:r>
              <a:rPr b="0" lang="es-MX" sz="3200" spc="-1" strike="noStrike">
                <a:solidFill>
                  <a:srgbClr val="ffffff"/>
                </a:solidFill>
                <a:latin typeface="Times New Roman"/>
              </a:rPr>
              <a:t>– De form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13B01-6EB4-4E8B-9D38-5C11A6E2B435}" type="datetime">
              <a:rPr b="0" lang="es-ES"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13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3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5945-E70C-4330-8B14-23A838AE665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7T13:03:27Z</dcterms:created>
  <dc:creator>DR. LEOPOLDO GUROVICH</dc:creator>
  <dc:description/>
  <dc:language>en-US</dc:language>
  <cp:lastModifiedBy>Your User Name</cp:lastModifiedBy>
  <dcterms:modified xsi:type="dcterms:W3CDTF">2011-07-26T01:00:44Z</dcterms:modified>
  <cp:revision>19</cp:revision>
  <dc:subject/>
  <dc:title>Convenio Colectivo de Trabajo SUTERH N° 589/10</dc:title>
</cp:coreProperties>
</file>